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C146-C1EC-43FE-9B34-366C44A761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0752-48F0-44AE-92B1-B078F8A9E0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FCFB-C1C6-4BE1-A038-38E4D74A82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B882-343A-4F21-AABA-0A56E8472E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5208-B228-46E1-86E1-DC7F770A26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5B76-4E71-4B82-8EA2-80BFFA3D23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4E2C-56E2-492C-A717-692E74DB37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DD0E-8193-4CEB-8B13-1A332237A4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E16E-DA8C-4BE8-8DCE-D09BEA8EC9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01BD-06B6-41D0-9756-B6301E72B5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C529-A22C-4B4F-A871-23EB38181D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6538-5403-4999-BADE-E51D5F2966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06B1-349E-4159-B5C4-AE5C854C0C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0B37-C82A-410E-8ABE-E62F0486C1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4EF4-061F-4D0B-B567-3021DA3482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93A1-B2F0-4F2D-99DE-68F8B1202F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FAA3C-BEFD-4AF1-8E48-CDD24908F9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27AEC-3D39-4778-9A2A-1E22975EE1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FF94F-4233-4AF5-8A96-FD3ED119AB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19C6C-B75F-4B48-B83A-C7FAC29E5E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06007-FD5A-482A-96AD-05B30B5C9B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EABDB-8993-4F0B-8F2B-FC70252D38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F4673-F389-452E-B786-2FDB99D354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49F45-76EF-4372-AF7D-F804CE80D3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58E5B-BEDE-40B1-B147-7D688028EC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4200" y="428400"/>
            <a:ext cx="8715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FFB66-C74F-4FE1-9103-2D32E7FBF6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567F6-278C-4267-9BB5-8421E8EB99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BD36E-9E86-42EC-80E4-3D2E83BEE6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38A1B-FCF5-45B2-8CBB-A3A1287923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A111C-FE92-4F38-A898-32521F84E1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39B26-4278-4571-AF91-0CFE748582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D9A3C-9FD7-48AC-9F3D-8F8B1568AA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E28F7-E0A6-4AC0-88EA-EE1256B009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F41F1-9647-4E48-906C-62FED16397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5B717-9586-4F22-AAC7-8746480773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71F54-A272-4408-AD10-7AC2B30422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4200" y="428400"/>
            <a:ext cx="8715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8BA45-58F1-40AC-9017-41D598C371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B685F-1E16-4201-8BA9-128C37486B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B705B-0102-4D65-AED4-CD6A6A53BB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ED1FF-67AF-4FF7-98FF-E509C2EB08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7375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2B3A-FDEA-4CCD-AC6B-106F1AEB686A}" type="slidenum">
              <a:rPr b="0" lang="ru-RU" sz="12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Num" idx="2"/>
          </p:nvPr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7375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89B9-2A6D-4363-ACE6-75B12BDCF60E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02944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Verdana"/>
              </a:rPr>
              <a:t>RUSSIAN ECONOMY AND BANKING SECTOR IN THE CONTEXT OF CRISIS</a:t>
            </a:r>
            <a:endParaRPr b="1" lang="en-US" sz="32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13880" y="442872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Verdana"/>
              </a:rPr>
              <a:t>Oleg Preks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Verdana"/>
              </a:rPr>
              <a:t>D</a:t>
            </a:r>
            <a:r>
              <a:rPr b="1" lang="ru-RU" sz="2000" spc="-1" strike="noStrike">
                <a:solidFill>
                  <a:srgbClr val="595959"/>
                </a:solidFill>
                <a:latin typeface="Verdana"/>
              </a:rPr>
              <a:t>ecember</a:t>
            </a:r>
            <a:r>
              <a:rPr b="1" lang="en-US" sz="2000" spc="-1" strike="noStrike">
                <a:solidFill>
                  <a:srgbClr val="595959"/>
                </a:solidFill>
                <a:latin typeface="Verdana"/>
              </a:rPr>
              <a:t>,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34880"/>
            <a:ext cx="91440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real source of inflation in Russia is not the growth of the credit marke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5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C16C-2D71-4FFF-9D99-C946514C8885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Содержимое 4" descr=""/>
          <p:cNvPicPr/>
          <p:nvPr/>
        </p:nvPicPr>
        <p:blipFill>
          <a:blip r:embed="rId1"/>
          <a:stretch/>
        </p:blipFill>
        <p:spPr>
          <a:xfrm>
            <a:off x="5000760" y="1428840"/>
            <a:ext cx="4000320" cy="528624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4" descr=""/>
          <p:cNvPicPr/>
          <p:nvPr/>
        </p:nvPicPr>
        <p:blipFill>
          <a:blip r:embed="rId2"/>
          <a:stretch/>
        </p:blipFill>
        <p:spPr>
          <a:xfrm>
            <a:off x="142920" y="1428840"/>
            <a:ext cx="4714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9800" y="420480"/>
            <a:ext cx="87152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Russia undertakes significant 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economic recovery measures</a:t>
            </a: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 …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9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2048-0C4C-47B0-B3AF-2D4CDF51FB13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Содержимое 4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4429080" cy="5357880"/>
          </a:xfrm>
          <a:prstGeom prst="rect">
            <a:avLst/>
          </a:prstGeom>
          <a:ln w="0">
            <a:noFill/>
          </a:ln>
        </p:spPr>
      </p:pic>
      <p:pic>
        <p:nvPicPr>
          <p:cNvPr id="131" name="Содержимое 4" descr=""/>
          <p:cNvPicPr/>
          <p:nvPr/>
        </p:nvPicPr>
        <p:blipFill>
          <a:blip r:embed="rId2"/>
          <a:stretch/>
        </p:blipFill>
        <p:spPr>
          <a:xfrm>
            <a:off x="4714920" y="1285920"/>
            <a:ext cx="42861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…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but</a:t>
            </a: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most multiplicative way of stimulating the economic activity is being used weakl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33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AE03-BF05-415F-86C7-7EC3B8541703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Диаграмма 3" descr=""/>
          <p:cNvPicPr/>
          <p:nvPr/>
        </p:nvPicPr>
        <p:blipFill>
          <a:blip r:embed="rId1"/>
          <a:stretch/>
        </p:blipFill>
        <p:spPr>
          <a:xfrm>
            <a:off x="0" y="1357200"/>
            <a:ext cx="4643280" cy="2857680"/>
          </a:xfrm>
          <a:prstGeom prst="rect">
            <a:avLst/>
          </a:prstGeom>
          <a:ln w="0">
            <a:noFill/>
          </a:ln>
        </p:spPr>
      </p:pic>
      <p:pic>
        <p:nvPicPr>
          <p:cNvPr id="135" name="Диаграмма 4" descr=""/>
          <p:cNvPicPr/>
          <p:nvPr/>
        </p:nvPicPr>
        <p:blipFill>
          <a:blip r:embed="rId2"/>
          <a:stretch/>
        </p:blipFill>
        <p:spPr>
          <a:xfrm>
            <a:off x="4524480" y="1428840"/>
            <a:ext cx="4619520" cy="27144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6"/>
          <p:cNvSpPr/>
          <p:nvPr/>
        </p:nvSpPr>
        <p:spPr>
          <a:xfrm>
            <a:off x="3085560" y="4214880"/>
            <a:ext cx="2143800" cy="337320"/>
          </a:xfrm>
          <a:prstGeom prst="rect">
            <a:avLst/>
          </a:prstGeom>
          <a:noFill/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rastructure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200160" y="4818240"/>
            <a:ext cx="871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ese recovery plan is aimed at developing infrastructur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mean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on of job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al multiplication effe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other branches of econom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demand for primary good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9"/>
          <p:cNvSpPr/>
          <p:nvPr/>
        </p:nvSpPr>
        <p:spPr>
          <a:xfrm>
            <a:off x="4071960" y="3286080"/>
            <a:ext cx="85680" cy="9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13"/>
          <p:cNvSpPr/>
          <p:nvPr/>
        </p:nvSpPr>
        <p:spPr>
          <a:xfrm flipV="1">
            <a:off x="5243400" y="3714480"/>
            <a:ext cx="218628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emporary price rise on raw materials 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is not a way out of the crisis for Russia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4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A35B-D1B0-4ED3-A420-6B034BC04738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0" y="1433520"/>
            <a:ext cx="52149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inese demand for raw materials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s caused by major recovery measures aimed at developing infrastructure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ina will hardly continue to build up raw material reserves at growing prices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143680" y="1228680"/>
          <a:ext cx="3857400" cy="2468520"/>
        </p:xfrm>
        <a:graphic>
          <a:graphicData uri="http://schemas.openxmlformats.org/drawingml/2006/table">
            <a:tbl>
              <a:tblPr/>
              <a:tblGrid>
                <a:gridCol w="2016000"/>
                <a:gridCol w="1841400"/>
              </a:tblGrid>
              <a:tr h="6426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e of China in the global consumption i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ude o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umi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Object 7" descr=""/>
          <p:cNvPicPr/>
          <p:nvPr/>
        </p:nvPicPr>
        <p:blipFill>
          <a:blip r:embed="rId1"/>
          <a:stretch/>
        </p:blipFill>
        <p:spPr>
          <a:xfrm>
            <a:off x="214200" y="3786120"/>
            <a:ext cx="8731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Verdana"/>
              </a:rPr>
              <a:t>Mortgage market in Russia &amp; other countries</a:t>
            </a:r>
            <a:endParaRPr b="1" lang="en-US" sz="22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4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D990-1E83-400D-9EAE-665FC889DBC0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Содержимое 4" descr=""/>
          <p:cNvPicPr/>
          <p:nvPr/>
        </p:nvPicPr>
        <p:blipFill>
          <a:blip r:embed="rId1"/>
          <a:stretch/>
        </p:blipFill>
        <p:spPr>
          <a:xfrm>
            <a:off x="142920" y="1214280"/>
            <a:ext cx="3286080" cy="278640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4" descr=""/>
          <p:cNvPicPr/>
          <p:nvPr/>
        </p:nvPicPr>
        <p:blipFill>
          <a:blip r:embed="rId2"/>
          <a:stretch/>
        </p:blipFill>
        <p:spPr>
          <a:xfrm>
            <a:off x="3571920" y="1214280"/>
            <a:ext cx="5357880" cy="5500800"/>
          </a:xfrm>
          <a:prstGeom prst="rect">
            <a:avLst/>
          </a:prstGeom>
          <a:ln w="0">
            <a:noFill/>
          </a:ln>
        </p:spPr>
      </p:pic>
      <p:pic>
        <p:nvPicPr>
          <p:cNvPr id="149" name="Диаграмма 5" descr=""/>
          <p:cNvPicPr/>
          <p:nvPr/>
        </p:nvPicPr>
        <p:blipFill>
          <a:blip r:embed="rId3"/>
          <a:stretch/>
        </p:blipFill>
        <p:spPr>
          <a:xfrm>
            <a:off x="142920" y="4071960"/>
            <a:ext cx="32860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2920" y="713880"/>
            <a:ext cx="46432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re are many objects of great value to man which cannot be attained by unconnected individuals, but must be attained, if attained at all, by association. 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376092"/>
                </a:solidFill>
                <a:latin typeface="Verdana"/>
              </a:rPr>
              <a:t>Daniel Webster</a:t>
            </a:r>
            <a:r>
              <a:rPr b="1" i="1" lang="ru-RU" sz="1800" spc="-1" strike="noStrike">
                <a:solidFill>
                  <a:srgbClr val="376092"/>
                </a:solidFill>
                <a:latin typeface="Verdana"/>
              </a:rPr>
              <a:t> (1782-1852), </a:t>
            </a:r>
            <a:br>
              <a:rPr sz="1800"/>
            </a:br>
            <a:r>
              <a:rPr b="1" i="1" lang="en-US" sz="1800" spc="-1" strike="noStrike">
                <a:solidFill>
                  <a:srgbClr val="376092"/>
                </a:solidFill>
                <a:latin typeface="Verdana"/>
              </a:rPr>
              <a:t>United States Secretary of State</a:t>
            </a:r>
            <a:endParaRPr b="1" lang="en-US" sz="1800" spc="-1" strike="noStrike">
              <a:solidFill>
                <a:srgbClr val="376092"/>
              </a:solidFill>
              <a:latin typeface="Verdana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072040" y="692280"/>
            <a:ext cx="3571920" cy="3951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5286240" y="5143680"/>
            <a:ext cx="32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 of Russian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7 (495) 690-22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Highlights of the Russian banking system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7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94DE-F3C6-4DB2-B9BD-C02D954E12C2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14200" y="1285920"/>
          <a:ext cx="8715600" cy="5429160"/>
        </p:xfrm>
        <a:graphic>
          <a:graphicData uri="http://schemas.openxmlformats.org/drawingml/2006/table">
            <a:tbl>
              <a:tblPr/>
              <a:tblGrid>
                <a:gridCol w="3000600"/>
                <a:gridCol w="1000080"/>
                <a:gridCol w="1000080"/>
                <a:gridCol w="1143000"/>
                <a:gridCol w="1285920"/>
                <a:gridCol w="1285920"/>
              </a:tblGrid>
              <a:tr h="10634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tor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. ru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s over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s over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349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s’ 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2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19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4492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s’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7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42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7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5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loan portfo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25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8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8,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4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6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127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lo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0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0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4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6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1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209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16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 lo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1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5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3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56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5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0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4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3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5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7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3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4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6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an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CAEC-B94F-4DCF-92A1-40C8772BE736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2440" y="1482840"/>
          <a:ext cx="8929800" cy="4875120"/>
        </p:xfrm>
        <a:graphic>
          <a:graphicData uri="http://schemas.openxmlformats.org/drawingml/2006/table">
            <a:tbl>
              <a:tblPr/>
              <a:tblGrid>
                <a:gridCol w="457200"/>
                <a:gridCol w="4246560"/>
                <a:gridCol w="685800"/>
                <a:gridCol w="633600"/>
                <a:gridCol w="620640"/>
                <a:gridCol w="744480"/>
                <a:gridCol w="755640"/>
                <a:gridCol w="785880"/>
              </a:tblGrid>
              <a:tr h="282600">
                <a:tc gridSpan="2" row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%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 THE CORRESPONDING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IO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F THE PREVIOUS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1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1440">
                      <a:solidFill>
                        <a:srgbClr val="bfbfbf"/>
                      </a:solidFill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out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ight turnov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ments in fixed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ail turn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mer price 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cember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6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goods’ producer price inde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cember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6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employment rat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economically active populatio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period’s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 disposable money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rt of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4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which oil ex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rt of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4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15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Deterioration of major macroeconomic indicators in Russia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Assets of Russian Banking Sector in Comparison with Other Advanced Economie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93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486C-49F6-49F1-A834-E5DBA80F0A87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Диаграмма 3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143320" cy="5286240"/>
          </a:xfrm>
          <a:prstGeom prst="rect">
            <a:avLst/>
          </a:prstGeom>
          <a:ln w="0">
            <a:noFill/>
          </a:ln>
        </p:spPr>
      </p:pic>
      <p:pic>
        <p:nvPicPr>
          <p:cNvPr id="95" name="Диаграмма 4" descr=""/>
          <p:cNvPicPr/>
          <p:nvPr/>
        </p:nvPicPr>
        <p:blipFill>
          <a:blip r:embed="rId2"/>
          <a:stretch/>
        </p:blipFill>
        <p:spPr>
          <a:xfrm>
            <a:off x="5429160" y="1285920"/>
            <a:ext cx="3571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Russia feels deficit for long-term resource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97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A7FC-9609-460B-A6F8-D4E01DEB58B4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Диаграмма 3" descr=""/>
          <p:cNvPicPr/>
          <p:nvPr/>
        </p:nvPicPr>
        <p:blipFill>
          <a:blip r:embed="rId1"/>
          <a:stretch/>
        </p:blipFill>
        <p:spPr>
          <a:xfrm>
            <a:off x="142920" y="1616040"/>
            <a:ext cx="4357800" cy="5143680"/>
          </a:xfrm>
          <a:prstGeom prst="rect">
            <a:avLst/>
          </a:prstGeom>
          <a:ln w="0">
            <a:noFill/>
          </a:ln>
        </p:spPr>
      </p:pic>
      <p:pic>
        <p:nvPicPr>
          <p:cNvPr id="99" name="Диаграмма 5" descr=""/>
          <p:cNvPicPr/>
          <p:nvPr/>
        </p:nvPicPr>
        <p:blipFill>
          <a:blip r:embed="rId2"/>
          <a:stretch/>
        </p:blipFill>
        <p:spPr>
          <a:xfrm>
            <a:off x="4643280" y="1616040"/>
            <a:ext cx="4357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old model of Russian economy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does not work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0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E1FC-2455-40E3-B6D9-60974022AA35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4" descr=""/>
          <p:cNvPicPr/>
          <p:nvPr/>
        </p:nvPicPr>
        <p:blipFill>
          <a:blip r:embed="rId1"/>
          <a:stretch/>
        </p:blipFill>
        <p:spPr>
          <a:xfrm>
            <a:off x="109440" y="2541600"/>
            <a:ext cx="4608720" cy="42609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128520" y="1157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l of Russian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232600" y="12142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w model of R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7"/>
          <p:cNvSpPr/>
          <p:nvPr/>
        </p:nvSpPr>
        <p:spPr>
          <a:xfrm>
            <a:off x="1782720" y="2286000"/>
            <a:ext cx="12146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737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8"/>
          <p:cNvSpPr/>
          <p:nvPr/>
        </p:nvSpPr>
        <p:spPr>
          <a:xfrm>
            <a:off x="214200" y="1857240"/>
            <a:ext cx="4500720" cy="4287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igh oil prices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80-120 $/bb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хема 9" descr=""/>
          <p:cNvPicPr/>
          <p:nvPr/>
        </p:nvPicPr>
        <p:blipFill>
          <a:blip r:embed="rId2"/>
          <a:stretch/>
        </p:blipFill>
        <p:spPr>
          <a:xfrm>
            <a:off x="5065560" y="1944720"/>
            <a:ext cx="4084920" cy="42069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1" descr="noentry.gif"/>
          <p:cNvPicPr/>
          <p:nvPr/>
        </p:nvPicPr>
        <p:blipFill>
          <a:blip r:embed="rId3"/>
          <a:stretch/>
        </p:blipFill>
        <p:spPr>
          <a:xfrm>
            <a:off x="3228840" y="3309840"/>
            <a:ext cx="1262160" cy="1262160"/>
          </a:xfrm>
          <a:prstGeom prst="rect">
            <a:avLst/>
          </a:prstGeom>
          <a:ln w="0">
            <a:noFill/>
          </a:ln>
        </p:spPr>
      </p:pic>
      <p:sp>
        <p:nvSpPr>
          <p:cNvPr id="109" name="Штриховая стрелка вправо 12"/>
          <p:cNvSpPr/>
          <p:nvPr/>
        </p:nvSpPr>
        <p:spPr>
          <a:xfrm rot="5400000">
            <a:off x="3000240" y="2000160"/>
            <a:ext cx="1785960" cy="1071360"/>
          </a:xfrm>
          <a:prstGeom prst="pie">
            <a:avLst/>
          </a:prstGeom>
          <a:solidFill>
            <a:srgbClr val="0d0d0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Стрелка вверх 13" descr=""/>
          <p:cNvPicPr/>
          <p:nvPr/>
        </p:nvPicPr>
        <p:blipFill>
          <a:blip r:embed="rId4"/>
          <a:stretch/>
        </p:blipFill>
        <p:spPr>
          <a:xfrm>
            <a:off x="4157640" y="2584440"/>
            <a:ext cx="13352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mph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50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redibility comes back to Ruble slowl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2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D8B0-FBB4-482F-BC51-C239CBCED474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214200" y="1357200"/>
            <a:ext cx="4000680" cy="5286600"/>
          </a:xfrm>
          <a:prstGeom prst="rect">
            <a:avLst/>
          </a:prstGeom>
          <a:solidFill>
            <a:srgbClr val="f2f2f2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other countries are keen on buying foreign currencies if the national currency devalu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the “mild” d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$ 46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n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ve been bought by population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re is agiotage demand on rubles, despite its strength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urthermore, the demand on foreign currencies is r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Содержимое 4" descr=""/>
          <p:cNvPicPr/>
          <p:nvPr/>
        </p:nvPicPr>
        <p:blipFill>
          <a:blip r:embed="rId1"/>
          <a:stretch/>
        </p:blipFill>
        <p:spPr>
          <a:xfrm>
            <a:off x="4357800" y="1357200"/>
            <a:ext cx="45720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3840" y="428400"/>
            <a:ext cx="85726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Banks need to be recapitalized, because of the growth of delinquent loan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C981-88E9-4752-AFB9-451AC5BA235B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Диаграмма 3" descr=""/>
          <p:cNvPicPr/>
          <p:nvPr/>
        </p:nvPicPr>
        <p:blipFill>
          <a:blip r:embed="rId1"/>
          <a:stretch/>
        </p:blipFill>
        <p:spPr>
          <a:xfrm>
            <a:off x="0" y="1357200"/>
            <a:ext cx="6215040" cy="528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6215040" y="1681200"/>
          <a:ext cx="2928960" cy="3784680"/>
        </p:xfrm>
        <a:graphic>
          <a:graphicData uri="http://schemas.openxmlformats.org/drawingml/2006/table">
            <a:tbl>
              <a:tblPr/>
              <a:tblGrid>
                <a:gridCol w="1527120"/>
                <a:gridCol w="140184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s of the volume of delinquent loans by the end of 2009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credit portfo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&amp;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 to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-b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dit Sui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15%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ody´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17%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fin 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growth of delinquent loans is accompanied by reduction of credit activit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0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EFF1-23E1-47A0-A176-FFD340080D22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Диаграмма 4" descr=""/>
          <p:cNvPicPr/>
          <p:nvPr/>
        </p:nvPicPr>
        <p:blipFill>
          <a:blip r:embed="rId1"/>
          <a:stretch/>
        </p:blipFill>
        <p:spPr>
          <a:xfrm>
            <a:off x="285840" y="1500120"/>
            <a:ext cx="4714920" cy="500076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1" descr=""/>
          <p:cNvPicPr/>
          <p:nvPr/>
        </p:nvPicPr>
        <p:blipFill>
          <a:blip r:embed="rId2"/>
          <a:stretch/>
        </p:blipFill>
        <p:spPr>
          <a:xfrm>
            <a:off x="5000760" y="1428840"/>
            <a:ext cx="3929040" cy="52149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6"/>
          <p:cNvSpPr/>
          <p:nvPr/>
        </p:nvSpPr>
        <p:spPr>
          <a:xfrm>
            <a:off x="3600" y="6595920"/>
            <a:ext cx="1296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: CBR, IM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7:16:52Z</dcterms:created>
  <dc:creator>Григорян</dc:creator>
  <dc:description/>
  <dc:language>en-US</dc:language>
  <cp:lastModifiedBy>Serge Grigoryan</cp:lastModifiedBy>
  <dcterms:modified xsi:type="dcterms:W3CDTF">2009-11-30T08:03:28Z</dcterms:modified>
  <cp:revision>971</cp:revision>
  <dc:subject/>
  <dc:title>О деятельности  Ассоциации российских банков  за отчетный период.  Антикризисные меры в финансово-кредитной сфере</dc:title>
</cp:coreProperties>
</file>